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F246-39B6-42B4-8F4D-ED402BF8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EAA-D504-4CDD-8FF0-FA967A81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D8D-8C6A-4C40-8AAA-FC7F1B3B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E58-8F10-4F55-BEF5-29D33A7F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2BC-2018-4F65-9DBA-F02265DE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25FC-B085-421B-82A1-99DF80CD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DD49-9E36-4A1A-8A17-35B9D784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D950-1794-421D-8574-7300983E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BD61-1EC1-4166-AC90-0712506A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0B9F-E869-4F58-A7E2-93F115E9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6D30-AC3A-4784-9C7C-A9367E9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1409-FEA7-43FD-857A-EABC02A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1EC-7031-48C6-BF55-5CC00900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4C0D-F66B-4619-B651-E721470D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CB18-34A9-4703-BA82-BC1B33D5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CC63-EEBA-4662-834F-A10C220A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18BB-0DD4-4D42-928B-D40160BF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6DD0-782C-4698-8FEE-382F2DC5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FF40-866D-4147-BC68-7FE3D962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AAF2-BD14-4028-9F5A-468E73A1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04DC-C7AC-4624-A463-DDA3E068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ABC0-5D0A-4CC9-A3E4-5EC30ABA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A04B-4D2F-4095-8E39-78854A8E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C7C-32C3-41CD-B0CA-8CA8CA73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035EF-022E-42F1-B36C-4B763AAF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1CAB-5B2C-4584-9BF0-32211D0F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DA98-0126-4B64-BE01-A9BC84BA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32E3-4843-4075-A893-4C863A34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7D8F-624D-49B8-9847-1BBAAB98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04DB8-5177-4969-AC92-CC927FF2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8D6C-69C8-468C-831D-5B19C2EC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1299E-C12D-4B7A-BB8C-1F8FC9DE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22E6-2819-4E1B-B11B-60669E8B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66481-7A0C-4E17-8337-05540345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774-4901-4294-ADFD-F753BDAE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822C1-958A-4EB1-9DDE-FFF7C0CE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3356-C38E-415D-8D47-24FCD54A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3D811-B419-45CE-8BBD-94383DE9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14A1E-0266-4AC2-9A56-2120E28C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C4808-23C6-4C5F-B004-7C52167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904E4-EB3E-4560-A2AF-F20C63A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01EF-3D6C-483F-A28C-B0F8224E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32D1-770D-4BBC-8F09-32485FBF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3475-1C6A-4E92-A0D2-4D96904C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62F-2E4C-4535-97A0-B40BA3DD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C10-0BFC-4D1E-B697-C76F2EF4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5E9-4644-4A94-9F5E-5BF64E3D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ADA-DFE5-4EE5-93D3-B82F7DC1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3C9-6599-4538-8738-26787B41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5854-0D30-49A5-9661-EDCCECC287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54C6-F937-48DC-B53F-2D04F738F6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41E7-F55A-41D8-87FC-14AF2AC0CE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2CB5-F6EF-4508-B26B-0646E043BF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7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4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RomaK</cp:lastModifiedBy>
  <dcterms:modified xsi:type="dcterms:W3CDTF">2015-09-04T11:07:52Z</dcterms:modified>
  <cp:revision>27</cp:revision>
  <dc:subject/>
  <dc:title>Aim: How do cells make new cells?</dc:title>
</cp:coreProperties>
</file>